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EC6-B59F-4F49-BBD2-1EA16C2A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53C-48A0-4060-9DCB-D41199B2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7D7-761A-4773-899F-54DC1145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2E9-6C51-4D81-8BC4-B60E9CD2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614-FA68-4FC1-8AED-5F1DF189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03F-1614-4584-9785-E210E03F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F52-A810-4042-B098-DBF6689B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ECCB-C178-4936-889E-DCDA0BC2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1D9-F888-4F36-8FCA-AB6394A6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E790-00CB-4A99-AB3B-E0F28F4E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D75-0023-47EC-9C77-60011130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C2F-A978-44E6-829D-BBD7E025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99AD-6DCF-4A5F-B969-475966B2B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hyperlink" Target="http://www.christnotes.org/bible.php?book=9&amp;ver=kjv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hyperlink" Target="http://www.christnotes.org/bible.php?book=19&amp;ver=kjv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hyperlink" Target="http://www.christnotes.org/bible.php?book=1&amp;ver=kjv" TargetMode="External"/><Relationship Id="rId3" Type="http://schemas.openxmlformats.org/officeDocument/2006/relationships/hyperlink" Target="http://www.christnotes.org/bible.php?book=1&amp;ver=kjv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hyperlink" Target="http://www.christnotes.org/bible.php?book=1&amp;ver=kjv" TargetMode="External"/><Relationship Id="rId3" Type="http://schemas.openxmlformats.org/officeDocument/2006/relationships/hyperlink" Target="http://www.christnotes.org/bible.php?book=1&amp;ver=kjv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fathersloveletter.com/Devotionals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hyperlink" Target="http://www.christnotes.org/bible.php?book=1&amp;ver=kjv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hyperlink" Target="http://www.christnotes.org/bible.php?book=9&amp;ver=kjv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971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Go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God's_spacehand.jpg"/>
          <p:cNvPicPr/>
          <p:nvPr/>
        </p:nvPicPr>
        <p:blipFill>
          <a:blip r:embed="rId1"/>
          <a:stretch/>
        </p:blipFill>
        <p:spPr>
          <a:xfrm>
            <a:off x="228600" y="3240000"/>
            <a:ext cx="3733920" cy="2803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God's_eye.jpg"/>
          <p:cNvPicPr/>
          <p:nvPr/>
        </p:nvPicPr>
        <p:blipFill>
          <a:blip r:embed="rId2"/>
          <a:stretch/>
        </p:blipFill>
        <p:spPr>
          <a:xfrm>
            <a:off x="4952880" y="380880"/>
            <a:ext cx="3657600" cy="275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4120" y="3657600"/>
            <a:ext cx="2971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proper resp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everyone: Love the brotherhood of believers, fear God and honor the king. 1 Peter 2:17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 prepared to learn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give you this charge: be prepared in season and out of season… 2 Timothy 4:1-2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ways do your best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we are God’s workmanship, created in Christ Jesus to do good works, which God prepared in advance for us to do.  Ephesians 2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 Samuel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Samu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King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King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Chronic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Chronic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z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hemia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h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salm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verb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clesias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g of Solom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r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enta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ek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s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ad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n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h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bakk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phan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gga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char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ach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1676520"/>
            <a:ext cx="182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hu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g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h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h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al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erb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clesias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g of Solom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r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enta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ek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s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ad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n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h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bakk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phan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gga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char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ach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1752480"/>
            <a:ext cx="182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nesis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od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itic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mber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uteronom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hu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g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h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h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al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erb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clesias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g of Solom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r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enta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ek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s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ad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n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h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bakk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phan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gga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char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ach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676520"/>
            <a:ext cx="182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enesis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od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itic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mber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uteronom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hu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g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h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h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al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erb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clesias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g of Solom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r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enta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ek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s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ad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n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h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bakk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phan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gga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char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ach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1676520"/>
            <a:ext cx="182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hu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g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h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h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al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erb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clesias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g of Solom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r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enta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ek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s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ad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n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h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bakk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phan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gga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char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ach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1752480"/>
            <a:ext cx="182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nesis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od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itic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mber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uteronom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hu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g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h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h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al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erb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clesias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g of Solom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r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enta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ek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s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ad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n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h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bakk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phan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gga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char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ach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1676520"/>
            <a:ext cx="182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enesis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od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itic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mber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uteronom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hu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g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h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h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al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erb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clesias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g of Solom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r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enta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ek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s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ad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n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h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bakk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phan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gga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char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ach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sof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students will demonstrate correct posture and position at the 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students will participate in a learn by doing atmosphere.  Completing in-class assignments using the word processing program, Microsoft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blical Truth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recognizes writing as a powerful tool to influence people. God himself wrote, God commanded others to write, and God keeps rec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soft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students will demonstrate correct posture and position at the keyboard and using ten-keyp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students will participate in a learn by doing atmosphere.  Completing in-class assignments using the MS Exc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cal Tru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each us to number our days, that we may apply our hearts unto wisdom…” (Psalm 90:1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ll praise thee; for I am fearfully and wonderfully made.  (Psalm 138: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fathers_love_letter_paint.JPG"/>
          <p:cNvPicPr/>
          <p:nvPr/>
        </p:nvPicPr>
        <p:blipFill>
          <a:blip r:embed="rId1"/>
          <a:stretch/>
        </p:blipFill>
        <p:spPr>
          <a:xfrm>
            <a:off x="2133720" y="236232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athers_love_lette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838080"/>
            <a:ext cx="792504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iblical Referen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13444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aiah 43:7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(creating fi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Timothy 6:20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(proper ca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I Chronicles 30:16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(correct posi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euteronomy 25:15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(accurac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 Samuel 26:13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(proper spac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roverbs 15:23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(timin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nesi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od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iti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b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uter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shu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dg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 Samuel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Samu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King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King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Chronic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Chronic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z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hemia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h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01:16:56Z</dcterms:created>
  <dc:creator>User</dc:creator>
  <dc:description/>
  <dc:language>en-US</dc:language>
  <cp:lastModifiedBy>User</cp:lastModifiedBy>
  <dcterms:modified xsi:type="dcterms:W3CDTF">2011-08-14T02:54:51Z</dcterms:modified>
  <cp:revision>6</cp:revision>
  <dc:subject/>
  <dc:title>God and Computers</dc:title>
</cp:coreProperties>
</file>